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B1A1F-E6C6-40CA-A4E7-D2FF86B65E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C335C-C46C-4429-A37F-311637002E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BA5C1-CD0D-4FB9-ABDA-8A53B4F931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74156-4DAC-411B-BE93-12C0E4F0D6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CE70-571F-4C2E-9A42-D79A6ADA46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88A6F-58B1-4A0B-9BFF-11DE41D32B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9CDEA-0968-4E3F-9528-B7E7C540EC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A61A3-20B0-445F-9362-C0A1D5AAB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525BC-ECDD-4C49-8EC1-0750F7E05C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2F484-9059-401C-B464-6F70F64F51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0E4C5-82BC-48C5-A837-99C9F05E1E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1C2EA-B9EE-4D92-8239-61310877C9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18A7-7B8E-4F64-93FD-CF0A2DA35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DBD12-98AD-4CE9-B80D-19C85F0E05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3BEF0-BEA7-4E9E-840D-956B0B0D3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4AC-DD82-4C5C-BE77-40583C7E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A8A-BD02-4DD7-981E-E6D3FA2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101-BC92-4B7E-A77E-03404AE9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7A9-5501-4AD9-A8B7-EF3354C2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E0B-6A90-4C5C-9D79-DA04C40D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60E-2F7E-4A65-BD5D-107DC60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8B6-D6D9-420F-BA28-50ED14A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156-E72E-4ABA-9833-2E1D308C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62F-B77B-438A-9472-939B64A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098-D6B4-4B75-B11F-2C2B769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B54-0384-4D42-AA16-3AC14F2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F12-17C9-4033-BDB4-341592F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5EF4ED-1A37-4C23-9289-0D82610AB8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anonewsnet.ru/" TargetMode="External"/><Relationship Id="rId2" Type="http://schemas.openxmlformats.org/officeDocument/2006/relationships/hyperlink" Target="http://www/rovenki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179280" y="1440000"/>
            <a:ext cx="89996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О чудный новый мир нанотехнологи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60720" y="5940360"/>
            <a:ext cx="6481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 ученики 8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 К.С., Болотников С.Н., Климова Е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00720" y="306072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19640" y="341964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00360" y="415296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559640" y="-900000"/>
            <a:ext cx="72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60720" y="3419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700360" y="341964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1800360" y="2700360"/>
            <a:ext cx="41400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УДУЩЕЕ НАНОТЕХНОЛОГИ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1636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технологии дадут человеку физическое бессмер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о таблеток, с помощью которых можно будет излечить тяжелые заболевания всего за несколько ча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протезов, не отвергаемых живой тка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мельчайших роботов-агентов, способных проникать в организм человека, выявлять и лечить различ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5040360" y="1619280"/>
            <a:ext cx="4500360" cy="3600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219640" y="5462640"/>
            <a:ext cx="4819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ноботы во рту занимают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овлени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ого з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115640"/>
            <a:ext cx="471672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«космического лифта», способного перемещать в космос различные предметы, затрачивая минимум энергии и материальных сред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явление роботов, которые смогут создавать любые предметы из атомов и молекул и послужат во благо челове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зводство экологически безопасных автомоби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219640" y="1079640"/>
            <a:ext cx="4140360" cy="360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400720" y="5219640"/>
            <a:ext cx="455616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мический лифт, т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го сплетены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отр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ение безотходного производства, не засоряющего окружающую сре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 самоочищающейся, нагревающейся и сверхпрочной  тка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073480" y="17002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119640" y="5219640"/>
            <a:ext cx="3686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ья смогут меня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у и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ецировать како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одно изобра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ализ и оценка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убедились в том, что развитие нанотехнологий действительно улучшит наше будущее. Мы сможем лечить тяжелые заболевания всего за несколько минут, с легкостью перемещать тяжелые грузы на далекие расстояния, создавыать микророботов, которые послужат во благо человечеству. И мы согласны с тем, что необходимо делать все для развития нанотехнологий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: журналы «Наука и техни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– ресурсы: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anonewsnet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/rovenki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http://images.yandex.ru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и и задачи нашего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280" y="19796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на чем основана наука нанотехн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результаты развития нанотехнологии на сегодняшни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лянуть в будущее: какие прогнозы ставят ученые и каков этот новый мир нано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редполагаем, что развитие нанотехнологий уже в недалеком будущем приведет к сенсационным открытиям в области науки, техники, медицины, промышленности и других сферах человеческой деятельности и во многом улучшит условия нашей жизн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419640" y="1260360"/>
            <a:ext cx="2695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очерпнули много информации о нанотехнологиях из интернета и литера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ли интервью у преподавателей Технического и Медицинского университ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ли высказывания ученых и представителей сфер промышленности, медицины и электро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ели современные научные газеты и журн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ходе исследования мы ответили на следующи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зучает наука нанотехноло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же дало развитие нанотехнологий на сегодняшн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будущее нанотехнолог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лектро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изучает наука нанотехн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нотехн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область прикладной науки, занимающаяся производством материалов и изделий сверхмалых размеров и изучающая свойства различных веществ на атомарном и молекулярн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049720" y="3589200"/>
            <a:ext cx="17906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360360" y="7207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940360" y="5219640"/>
            <a:ext cx="335772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уже дало развитие нанотехнологий на сегодняшний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941480"/>
            <a:ext cx="90709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н порта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атор крови,                                                                       который выполняет                                                                  полный анализ крови всего за 2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отрубка – молекул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миллиона а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рода, представля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й трубку диам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нанометра и дли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микрон.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39640" y="1260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5759280" y="4319640"/>
            <a:ext cx="395928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503280" y="306360"/>
            <a:ext cx="9070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4140360" cy="395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375080" y="1015920"/>
            <a:ext cx="10023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ые-нанотехнол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и &lt;руку робота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молекулы ДН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крепили ее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мерной кристалли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К-матр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нению исследоват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крытие - пер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ьезный шаг к разви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робототех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720" y="132840"/>
            <a:ext cx="4211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ученых из политехнического института Ренсселира, США, предлагает использовать композиты на основе углеродных нанотрубок при создании искусственной мышечной ткан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8920" y="1680840"/>
            <a:ext cx="471492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стижения в области наноматериалов, нанотехнологий позволяют существенно уменьшить вес и габариты ракетоносителей и той полезной нагрузки, которая будет выводиться в косм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5040360" y="250920"/>
            <a:ext cx="3600360" cy="334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360360" y="3959280"/>
            <a:ext cx="414036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3:00:10Z</dcterms:created>
  <dc:creator/>
  <dc:description/>
  <dc:language>en-US</dc:language>
  <cp:lastModifiedBy>Nabster</cp:lastModifiedBy>
  <dcterms:modified xsi:type="dcterms:W3CDTF">2010-06-03T18:55:52Z</dcterms:modified>
  <cp:revision>8</cp:revision>
  <dc:subject/>
  <dc:title>Слайд 1</dc:title>
</cp:coreProperties>
</file>